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35B-2076-4ECA-B187-0311577A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D2D-40BD-4D98-97AF-BDA5D1C4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FDF-74FA-4D8C-8794-E8DFDD52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972-73C3-4CB8-9F26-5F7E40F1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924-1706-4469-B5C8-7900763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A73-82FC-4612-975C-86328E20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F5D-271E-41F5-AC4D-F752B23E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352-193A-4D23-8FD2-670C9A3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56A-6C9D-45B7-BBE5-84F98807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6FF-73B1-4E38-9A45-8CBA9E29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449-48DF-40D4-8AC2-BB55A4DA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538-2AC5-4DBB-BD43-305B115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6242-E0DD-4A1D-AFDA-9C0C16429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57088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для презент. тонкий лед\02.jpg"/>
          <p:cNvPicPr/>
          <p:nvPr/>
        </p:nvPicPr>
        <p:blipFill>
          <a:blip r:embed="rId2"/>
          <a:stretch/>
        </p:blipFill>
        <p:spPr>
          <a:xfrm>
            <a:off x="142920" y="0"/>
            <a:ext cx="207180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017720" y="817560"/>
            <a:ext cx="763272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давайтесь панике! Берегите сил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. Делайте попытки ещё и ещё, если не получило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Рабочий стол\для презент. тонкий лед\1111111111111111.jpg"/>
          <p:cNvPicPr/>
          <p:nvPr/>
        </p:nvPicPr>
        <p:blipFill>
          <a:blip r:embed="rId1"/>
          <a:stretch/>
        </p:blipFill>
        <p:spPr>
          <a:xfrm>
            <a:off x="2357280" y="357192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571680" y="3029040"/>
            <a:ext cx="80722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988640"/>
            <a:ext cx="8280360" cy="23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авила оказания помощи человеку, провалившемуся под лё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3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7998120" cy="3414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1857240" y="3500280"/>
            <a:ext cx="51436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вытащите пострадавшего на лед, и вместе ползком выбирайтесь из опасной зо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ьте пострадавшего в теплое место. Окажите ему помощь: снимите с него мокрую одежду, энергично разотрите тело (до покраснения кожи) смоченной в спирте или водке суконкой или руками, напоите пострадавшего горячим чае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CHS-3"/>
          <p:cNvPicPr/>
          <p:nvPr/>
        </p:nvPicPr>
        <p:blipFill>
          <a:blip r:embed="rId1"/>
          <a:stretch/>
        </p:blipFill>
        <p:spPr>
          <a:xfrm>
            <a:off x="1042920" y="476280"/>
            <a:ext cx="705816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-4735" b="0"/>
          <a:stretch/>
        </p:blipFill>
        <p:spPr>
          <a:xfrm>
            <a:off x="6300720" y="5013360"/>
            <a:ext cx="2600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ьте внимательны и осторожны на льду водоёмов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этого совета может привести к беде. К сожалению, помощь попавшим в беду на воде приходит иногда слишком поздно, и происшествие заканчивается трагически. Чтобы этого не случилось, необходимо помнить, что выходить на лед можно только в крайнем случае и с максимальной осторож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4996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ИМНИЕ ЗАБА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MCHS-1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2" descr="C:\Documents and Settings\Admin\Рабочий стол\для презент. тонкий лед\22532.jpg"/>
          <p:cNvPicPr/>
          <p:nvPr/>
        </p:nvPicPr>
        <p:blipFill>
          <a:blip r:embed="rId2"/>
          <a:stretch/>
        </p:blipFill>
        <p:spPr>
          <a:xfrm>
            <a:off x="4716360" y="1484280"/>
            <a:ext cx="3888000" cy="369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0040" y="428760"/>
            <a:ext cx="822960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лед на водоемах рыхлый и непрочный. В это время выходить на его поверхность крайне опасно. Однако  многие люди пренебрегают мерами предосторожности и выходят на тонкий лед, тем самым, подвергая свою жизнь смертельной опас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859280" y="422100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8548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нужно з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м для одного человека считается лед толщиною не менее 10 сантиметров, для группы – не менее- 15 сантимет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i_033.png"/>
          <p:cNvPicPr/>
          <p:nvPr/>
        </p:nvPicPr>
        <p:blipFill>
          <a:blip r:embed="rId1"/>
          <a:stretch/>
        </p:blipFill>
        <p:spPr>
          <a:xfrm>
            <a:off x="1357200" y="3714840"/>
            <a:ext cx="300060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для презент. тонкий лед\416815_DETAIL.jpg"/>
          <p:cNvPicPr/>
          <p:nvPr/>
        </p:nvPicPr>
        <p:blipFill>
          <a:blip r:embed="rId2"/>
          <a:stretch/>
        </p:blipFill>
        <p:spPr>
          <a:xfrm>
            <a:off x="4572000" y="4000680"/>
            <a:ext cx="323856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Admin\Рабочий стол\для презент. тонкий лед\Копия 1287453_400_300_source.jpg"/>
          <p:cNvPicPr/>
          <p:nvPr/>
        </p:nvPicPr>
        <p:blipFill>
          <a:blip r:embed="rId2"/>
          <a:stretch/>
        </p:blipFill>
        <p:spPr>
          <a:xfrm>
            <a:off x="2666880" y="3060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 льда можно определить визуально: лед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луб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а – прочный, белый или желтоватый-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д ненадежен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Администратор\Рабочий стол\Копия 800xp1090843-1.jpg"/>
          <p:cNvPicPr/>
          <p:nvPr/>
        </p:nvPicPr>
        <p:blipFill>
          <a:blip r:embed="rId1"/>
          <a:stretch/>
        </p:blipFill>
        <p:spPr>
          <a:xfrm>
            <a:off x="684360" y="2635200"/>
            <a:ext cx="763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42876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ПАСНЫЕ М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whiteschool.narod.ru/zdorov_bez/led_1.jpg"/>
          <p:cNvPicPr/>
          <p:nvPr/>
        </p:nvPicPr>
        <p:blipFill>
          <a:blip r:embed="rId1"/>
          <a:stretch/>
        </p:blipFill>
        <p:spPr>
          <a:xfrm>
            <a:off x="755640" y="1197000"/>
            <a:ext cx="74502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1857240" y="428760"/>
            <a:ext cx="49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692360" y="220500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местах на водоёмах  лёд бывает не про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Dell</cp:lastModifiedBy>
  <dcterms:modified xsi:type="dcterms:W3CDTF">2020-11-03T08:14:34Z</dcterms:modified>
  <cp:revision>87</cp:revision>
  <dc:subject/>
  <dc:title>ГИДРОДИНАМИЧЕСКИЕ АВАРИИ</dc:title>
</cp:coreProperties>
</file>